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49098"/>
        <c:axId val="64230171"/>
      </c:barChart>
      <c:catAx>
        <c:axId val="18649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30171"/>
        <c:crosses val="autoZero"/>
        <c:auto val="1"/>
        <c:lblAlgn val="ctr"/>
        <c:lblOffset val="100"/>
        <c:noMultiLvlLbl val="0"/>
      </c:catAx>
      <c:valAx>
        <c:axId val="64230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49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BCE-6805-4E45-B27A-17845847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30D-412A-4B35-BAFF-7E008085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433-2522-40F9-9663-DE792AD1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EC9-9569-4101-88F2-63778EFA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BF8-8830-4BF5-88A0-36FF6D08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AA6-59D0-4FD9-886A-0298AAD3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59F-21EB-4E25-87F6-21CFE9B7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285-E150-4309-B073-81F14884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84B-363E-42BF-90C8-AF1EF38A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84B-AFA4-4DDA-9E7F-BE84F1EA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89E-22EF-4090-8D37-EFEA6A5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101-250F-4FFE-A672-E26AED34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F5364-DB4A-49F6-852A-2C180B9C30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