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52547"/>
        <c:axId val="24037317"/>
      </c:barChart>
      <c:catAx>
        <c:axId val="38852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37317"/>
        <c:crosses val="autoZero"/>
        <c:auto val="1"/>
        <c:lblAlgn val="ctr"/>
        <c:lblOffset val="100"/>
        <c:noMultiLvlLbl val="0"/>
      </c:catAx>
      <c:valAx>
        <c:axId val="24037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52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EC9-4334-4A27-9B04-59818DDF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8DE-F5B3-4A58-B058-34917ED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701-C645-4F4B-840D-228D46BF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FA8-D572-41C3-91E8-C1B3E90A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69A-1B6C-4E6F-A149-83339EA9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92B-F7E1-4835-8BE4-9696E2D1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E3B-0B8A-4E46-8AF9-61F2FDC3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5D7-707A-4F53-BCDB-B4F1E6FF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E7C-00B1-4FCF-9617-E5EFDB4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B48-0078-4D7C-B042-59133EB4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582-9A9B-462F-9036-D57D75C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D42-D0B2-484E-82E8-D10B28A3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17171-5B68-4323-A7A7-0E4EC12D0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