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1407"/>
        <c:axId val="8752493"/>
      </c:barChart>
      <c:catAx>
        <c:axId val="8811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493"/>
        <c:crosses val="autoZero"/>
        <c:auto val="1"/>
        <c:lblAlgn val="ctr"/>
        <c:lblOffset val="100"/>
        <c:noMultiLvlLbl val="0"/>
      </c:catAx>
      <c:valAx>
        <c:axId val="8752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1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EF9-4D9D-4791-8BC2-21950BCF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53A-3D85-4DF1-876F-B22E4FA3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B71-1E01-442B-A741-D4E23218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C45-C413-4B38-9672-B889BAF2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B42-DCAB-437B-83E5-82485B6E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EF3-7EC4-4E32-BCD8-41824701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CE9-A9D5-4DF1-87A9-7EE88550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BB6-5DAE-4326-AF37-E0563B8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1A3-26FD-4E22-B8AF-7B47A35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CB8-0E24-4D1F-ACBF-D49CF2C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B48-89B6-4087-B8CB-4A4A6CD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6A7-01A6-4035-AA24-35201D0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440CB-C0F8-4178-AFF9-B7FE26DFC7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