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807044"/>
        <c:axId val="89873027"/>
      </c:barChart>
      <c:catAx>
        <c:axId val="218070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73027"/>
        <c:crosses val="autoZero"/>
        <c:auto val="1"/>
        <c:lblAlgn val="ctr"/>
        <c:lblOffset val="100"/>
        <c:noMultiLvlLbl val="0"/>
      </c:catAx>
      <c:valAx>
        <c:axId val="89873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070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948-A9B6-4FFF-B9DD-4B52D82C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C86A-2AB4-46B5-B776-491AF2C4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6023-7315-4A14-889B-C182BDEC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734A-512F-4DC6-97B0-2BE8FE5D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946F-DB7B-4460-BCA1-DC54A407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B302-C213-49D9-89C3-5B78FCDE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BD8-1048-4BEE-B34D-0443C6E1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894F-F56D-4DA1-B1F1-1031C3D0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49C1-3ACA-40DB-8481-1DA41F7F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CEF-E2E3-410B-90A3-B3770EA7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9D7D-948F-4AA1-94BF-D76606A7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AF9-9C80-44E0-B885-1A80D8BB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CC892-E775-4740-8C41-CB4C2C557A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