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35530"/>
        <c:axId val="18648811"/>
      </c:barChart>
      <c:catAx>
        <c:axId val="74835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48811"/>
        <c:crosses val="autoZero"/>
        <c:auto val="1"/>
        <c:lblAlgn val="ctr"/>
        <c:lblOffset val="100"/>
        <c:noMultiLvlLbl val="0"/>
      </c:catAx>
      <c:valAx>
        <c:axId val="18648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35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E4E-47D0-4D5C-AA81-E8925F54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933-1498-4A36-9FD6-F268F4B2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E5C-E11D-4C71-ABC7-FB695E68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64A-1ADF-494E-8588-E50FE395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779-59D4-4947-AE58-15837FA7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EFB-682D-45AE-93B8-2A729E4C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4999-8931-4E39-B806-7F01F569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88A-DBD1-4B40-96D5-F654C554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8B3-6900-4EC9-A56F-4A7FE77E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1C4-528A-4DB2-9CCF-57D42325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05A-C2D4-4918-AA28-26B4ECD7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7E7-48D9-4D8D-9FBB-F5794BA1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FDDFD-31FD-4CFF-AE78-F4EC3901F4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