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645970"/>
        <c:axId val="50573517"/>
      </c:barChart>
      <c:catAx>
        <c:axId val="966459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73517"/>
        <c:crosses val="autoZero"/>
        <c:auto val="1"/>
        <c:lblAlgn val="ctr"/>
        <c:lblOffset val="100"/>
        <c:noMultiLvlLbl val="0"/>
      </c:catAx>
      <c:valAx>
        <c:axId val="50573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459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CE3-579F-421A-99AE-70723FFA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58B6-2E13-4139-8634-D6D4514E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62F-BFC4-457F-99B4-668E3166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652-8E69-4F2C-9841-6E0804F5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AFE-343E-48A3-89E1-23F37C04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10B7-3AEB-443C-B07C-4398A697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CE6-88A2-43BC-BCA6-C3F0EBE5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229C-A499-4628-BD86-4D2E71E0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B698-7797-4C59-8E0C-9697BB7F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EEC4-3DED-4C49-B93F-28F7F568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297-1851-41CB-8700-12957A79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C38-C3F5-46E3-BE31-4275AEA9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681E0-CC60-46FC-AD08-43E6422D08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