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21484"/>
        <c:axId val="50237487"/>
      </c:barChart>
      <c:catAx>
        <c:axId val="65721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37487"/>
        <c:crosses val="autoZero"/>
        <c:auto val="1"/>
        <c:lblAlgn val="ctr"/>
        <c:lblOffset val="100"/>
        <c:noMultiLvlLbl val="0"/>
      </c:catAx>
      <c:valAx>
        <c:axId val="50237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21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405-B3BC-4B05-921C-BB59F256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AD8-97F4-4463-AAF7-1D73DA82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677-D6B3-4FA9-8B6C-178DE91E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66E-1EB4-47F3-A819-9098E90E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BCD-F1F2-4E1B-BFF5-0943C125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CE3-A3B7-43CD-BEB7-52A06283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160-636D-4722-B75B-B9EBB18F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B48-17D1-4805-8533-BF1A86E5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6E3-51EB-4F19-90D4-2BFA727D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AFB-1E22-43A6-A285-3D68C317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178-3832-4C31-9A6F-7E23DEE7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78E-71C1-4810-825B-6C29FC1A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B22A9-1B9F-4AA8-8E0E-5D11755E49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