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903501"/>
        <c:axId val="50292616"/>
      </c:barChart>
      <c:catAx>
        <c:axId val="47903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92616"/>
        <c:crosses val="autoZero"/>
        <c:auto val="1"/>
        <c:lblAlgn val="ctr"/>
        <c:lblOffset val="100"/>
        <c:noMultiLvlLbl val="0"/>
      </c:catAx>
      <c:valAx>
        <c:axId val="502926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03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918-6903-48EF-82BE-0C602059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FEB-D634-472F-B626-F79F3617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CE4-848E-48BD-8127-72D52E2E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864-09B2-4169-9DA1-74D2720E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53E0-404A-4B0F-A958-31E21263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07F2-EE52-4786-BEC8-333CA8E7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B038-2CBB-4B68-B78C-FBC5FC04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D4E9-B1EE-46D1-A3CA-CDA15072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B6D-F99C-4105-8C16-CC8DD765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2CF-D036-4482-882F-944FDE3E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5117-C597-43E9-B1BD-A7D80E46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4194-3C24-499B-9BBE-E97F5F71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2CC3A-0CFF-44C0-9362-27B338E3A6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