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60864"/>
        <c:axId val="23681504"/>
      </c:barChart>
      <c:catAx>
        <c:axId val="47660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81504"/>
        <c:crosses val="autoZero"/>
        <c:auto val="1"/>
        <c:lblAlgn val="ctr"/>
        <c:lblOffset val="100"/>
        <c:noMultiLvlLbl val="0"/>
      </c:catAx>
      <c:valAx>
        <c:axId val="23681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60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B5A-A761-4AFA-8975-F61E6D5C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EE99-4F62-41F1-9EA0-B6126B41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0B6-989D-4C35-9A9D-3E9C1E2D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91F-CEE1-497E-B9E6-81C07679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2C3-BC2E-4D5F-B92B-3A241FBC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D7B-9FB0-4AEC-88AB-6D74DFB3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718-6BBF-42D6-9150-075F0A83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B04-E31E-4192-A377-C16140E3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10C1-F04A-4B25-BDA9-C245E083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4F29-75FE-4F11-B7FF-9E646D5C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3EDB-DAB5-43ED-9D47-C4DDC293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234-0BD2-41D2-9DBA-534B4B3B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0FB0A-CFF7-4DCB-B0CE-2B7DD0A898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