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13611"/>
        <c:axId val="56576262"/>
      </c:barChart>
      <c:catAx>
        <c:axId val="55413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6262"/>
        <c:crosses val="autoZero"/>
        <c:auto val="1"/>
        <c:lblAlgn val="ctr"/>
        <c:lblOffset val="100"/>
        <c:noMultiLvlLbl val="0"/>
      </c:catAx>
      <c:valAx>
        <c:axId val="56576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13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7AF-8755-44D0-B059-0460DFF2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E93-CD08-4963-801A-162FA07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09B-D544-46E1-B418-D20D95A4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84D-8C46-4C39-BD6F-16B45A28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182-D790-42BA-AEA2-9DF9F62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DFA-EB1B-454C-A163-15CF7FF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3E6-6028-4DFE-8FB1-BA5E237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B51-9C33-4806-BEBC-78A93A78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221-1ECC-431B-B158-DFCE55A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698-A848-4C11-B547-E7D572C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87D-6F3F-4308-82FB-3B39185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83A-3C77-4F9D-BA0C-1F5B945E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FFC9F-D70C-44C2-882B-A2BF61630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