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7075"/>
        <c:axId val="41057424"/>
      </c:barChart>
      <c:catAx>
        <c:axId val="4607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57424"/>
        <c:crosses val="autoZero"/>
        <c:auto val="1"/>
        <c:lblAlgn val="ctr"/>
        <c:lblOffset val="100"/>
        <c:noMultiLvlLbl val="0"/>
      </c:catAx>
      <c:valAx>
        <c:axId val="41057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7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809-7B0D-45C9-A814-E03F01E8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C17-978D-4809-9DDF-1C93D4EC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DD9-0BEA-4955-AAFE-79B80558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301-DFE0-4323-A9DB-CA915137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0C0-D937-4E44-8E71-A5638F69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2E1-68EF-495F-8D62-82DEFDAE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C99-F3EE-468D-BD0E-00D171A0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F9F-12B3-402E-9E0E-1A04BB35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295-451F-4538-88B7-972683D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9F5-9E81-4607-BCD4-9605D4A3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FC0-C4BA-4A39-BEF9-CD34732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961-0003-4654-9731-06D73BC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06962-9316-4FA9-AC3E-2731C3E57E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