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4280"/>
        <c:axId val="30578081"/>
      </c:barChart>
      <c:catAx>
        <c:axId val="6024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78081"/>
        <c:crosses val="autoZero"/>
        <c:auto val="1"/>
        <c:lblAlgn val="ctr"/>
        <c:lblOffset val="100"/>
        <c:noMultiLvlLbl val="0"/>
      </c:catAx>
      <c:valAx>
        <c:axId val="305780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4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800-0702-47C2-80F3-3B09B2CE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747-B7DC-4486-BD7A-7A36920C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F1B0-7DD8-451D-9FC9-5872E5B1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EE0-E301-43AA-A09D-F5C1EE14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42D-1ADD-4356-AD76-7AD6C09F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3103-A624-4D96-A48C-411B00B0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3C1-BD62-48A7-8478-A3870729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872-0B39-4365-B9C2-944CDEE5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9A6-2D3E-4C6D-B271-83EB86EF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0A07-EA67-4AB9-BB3F-8BBD6283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42F3-B483-4ECB-A9CB-0BC938D0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D61-896B-4505-8D33-88882B74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B23B5-D78B-43FD-B184-B0E992E0DE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