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50542"/>
        <c:axId val="83487863"/>
      </c:barChart>
      <c:catAx>
        <c:axId val="705505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87863"/>
        <c:crosses val="autoZero"/>
        <c:auto val="1"/>
        <c:lblAlgn val="ctr"/>
        <c:lblOffset val="100"/>
        <c:noMultiLvlLbl val="0"/>
      </c:catAx>
      <c:valAx>
        <c:axId val="83487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505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B19-9EEB-4BE1-94DE-0C31A787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11B-8D81-4E18-8255-2FB6C92E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DD5-F3BA-42FA-A6E4-EA01F171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025-809A-4DB7-8B01-84841111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CFD-2E9C-4E4A-A85E-6D677D64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61E-C8BC-4207-9EDD-572E0589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6AB-1161-4C00-A084-D958A5BD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C2F-D0B7-4205-972E-F5525838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75E8-D2DF-4F75-B4E5-9519508C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1226-C275-4BC7-B73F-8E8F7E10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C9D-1AEB-4263-9239-987C6CC1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6D8-2607-4155-BC29-FF3922A9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F1E58-118F-4A2B-8567-DB9D75E258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