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66751"/>
        <c:axId val="28283566"/>
      </c:barChart>
      <c:catAx>
        <c:axId val="36766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3566"/>
        <c:crosses val="autoZero"/>
        <c:auto val="1"/>
        <c:lblAlgn val="ctr"/>
        <c:lblOffset val="100"/>
        <c:noMultiLvlLbl val="0"/>
      </c:catAx>
      <c:valAx>
        <c:axId val="28283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66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D58-93AF-439F-B120-2C9CD336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B6A-D025-457A-9C7F-34A721E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A94-A3CA-4792-8892-57855D63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B27-0DF6-4DDE-9527-6186B02B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637-324E-4752-BBE9-E28BD14F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340-172B-431E-926B-7C920CB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394-5694-43AD-8DE5-95665CA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3C0-4A33-45B1-B981-BEFA75E6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77D-5EA5-48BB-A3F6-BB5252F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69F-8916-406B-BAA7-B9051DD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71D-BF75-4FC4-BCD9-12FE7C5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D3C-B9FF-42A0-8314-51C28C3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BB5FB-8CDB-43DE-ACA9-809A846241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